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2ED8-5E95-421C-BAA3-91CC12F48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604D-A84A-4D1F-9FC9-FE947296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C861-8A2A-4E01-BF24-1B457E637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04B3-1ABE-4FD0-8BBB-125D45E20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AB71-0C41-4326-9BC8-3934EE1DE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6B46-9A61-4C1F-94D9-681E1679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9EEF-69CD-47D6-AE64-B275219F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253E-D4B9-4B5F-8BA2-FAB5C854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316E-4051-4847-911C-1C72929F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00DF-57A2-4565-B631-CF5BBB50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0518-8EAC-44F5-808E-ADA2A48A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E1C1-9430-4747-9EDF-E7F99A41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A57B-1477-4C36-BA89-A22A62BC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7D68-80FA-4B02-9384-84D02E43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220C-6794-4113-AD9A-0ACF250F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E07D-96BD-47E9-A058-E58279353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2338-58AF-4183-86E1-4F10849BD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4798-E0C2-4CAC-B980-688C5C94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32F2-E027-4146-A9F3-0403A4D6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B9E0-EA65-49C9-8E83-F33A8823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043C-83C5-4F5C-A01F-67F95856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84F2-3719-4F81-AE30-13BC06FF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7E42-81CA-43C9-AF04-7459CC6B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64A8-9309-454C-AC6B-7D240639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96EA-A926-43EC-AFBC-E99016EB016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FC04-54C2-4A23-BC6D-749A8A6BB38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O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ke this sentence have a parallel structure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e likes jogging, reading and to play baseball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e likes jogging, reading and playing baseball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ll of them are now gerunds and end in ing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ocused Freewrit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ould you rather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eet the president of the U.S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r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famous movie sta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Vocabulary practice-match the word with its synony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ulminate           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ngros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bominabl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ccurs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asperat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rroneo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ooris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ccos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bsorb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plod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correc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ud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iserabl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atefu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ngr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etonat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o do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nish story-read from second column on 538 to the en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o this writing assignment: Write one page about what happens to the family now. Remember to focus on realism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udy for test-test is tomorrow! Refresh your memory on 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The Open Boa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To Build a Fire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d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 The Jungl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05:46:09Z</dcterms:created>
  <dc:creator>Angie</dc:creator>
  <dc:description/>
  <dc:language>en-US</dc:language>
  <cp:lastModifiedBy>Angie</cp:lastModifiedBy>
  <dcterms:modified xsi:type="dcterms:W3CDTF">2009-02-04T12:29:53Z</dcterms:modified>
  <cp:revision>3</cp:revision>
  <dc:subject/>
  <dc:title>DOL</dc:title>
</cp:coreProperties>
</file>